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pl-P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DDD716-4BD2-433A-9BD5-C9182793234B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B3A3F8-8B34-48D0-895C-27AAAE8867A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E19355-409F-4296-AD5D-E0569AFE01F4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Zaleca się otwarcie konta nieoprocentowanego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3674A3-2977-4B99-A2FD-B03255D3AB5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56DD63-DA70-4112-91D7-563DCFC510E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Przychody muszą być wykazane w budżecie (etap FAF) i monitorowan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Projekt nie może generować zysku przez 5 lat po jego zakończeniu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5F39DD-242E-485C-A313-EE7EDCD61BE0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8C2E97-2405-4620-B3A1-1C0198281A9B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0B3412-5E0B-44BF-A23D-0113622B73E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211BB0-7822-43AC-AA59-20C295F78C5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CA70039-7E80-4DF4-80F7-1E75172CFFA7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D3A85A-626C-4A99-A284-D9DB8E0DFA3A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DEF373-5414-4ABD-93D5-AB2744B2255A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DE4F6FA-7DD5-4B8B-BBBA-7F4BAECBB93E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C65F7C-7569-414A-BC2E-6ADB5590F33E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5896AE-13A6-4F5A-980D-A7A05D79CA50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ABAFDF-7D46-47A1-813E-E623351A242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5E5CB4-3F52-413E-BB09-9D59A89FBCDE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Razem z raportem pośrednim/końcowy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Бенефіціари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mogą być poproszeni o wysłanie do WST dokumentów potwierdzających wydatki (będzie próba?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A402DD-8FFB-422E-A642-FB787478CD22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A20F3E-49E8-40F2-95AC-D7C8FD9B5D5E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A2D207-6653-494E-AB0E-B1AEEE63A3F5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DD9CC8-AC0F-43E5-9E00-30DE7595039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1E9BC4-4D40-4418-A504-A44F50C7304E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AF0226-C2E9-4C1C-8543-10A3119B5F1E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562BE0-4DC0-40C5-AAEF-214A773B60B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09BB65-2330-4077-A772-A95125B7FDA2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B8FC19-5091-4F6B-8FEF-F3BBA71D065F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4BAF49-E002-492C-A72C-1051A8CAEC94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F49905-7DE9-4714-9B4D-F0732590212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3E0839-DE04-4426-A532-4FABF13282B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EFB4589-CCD7-4F01-B56A-AAAA0D5E2D01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20703A-CFFB-415B-B868-42920C15F53C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C937DF-5CAF-42A7-8C64-D13558C91869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9156FF-20E3-4A29-A5C4-6C73A153D31D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66C3A1-696D-4FCA-B0CB-5CD10D819010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749A81-8CEB-41F0-9422-67E43B5444A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1E9987-B839-41A8-A528-0ED748B6730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DF7680-7104-4AE1-9C89-DC0FE3A26F74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Ostatnia płatność to 20% dofinansowania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Бенефіціари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muszą zapewnić środki własn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1BF474-9973-4937-A0B3-F28FF632A0A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0C53E-AB87-46DB-8461-2495E1D9F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AEDA-613E-4242-8FE6-398F46C4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179F9-D029-4455-B262-EFD8AB3A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BAD1-2EBA-4627-A9E2-6BD7ECFD7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A3C4-A6B9-4035-9DE0-2FD7418F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49EE-F941-475E-9281-39435954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3536-30D4-4C19-86F1-5AE576D7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B989-8778-4296-AB29-61DD494D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E5169-0913-4BD4-9970-840517A8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3B0F-42FF-4380-882F-0D9B2BFC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3084-4F67-41CC-9463-1A4F51E3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E6F5-50BC-4A8C-909C-CF553511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B9C94D-D795-45D8-BE70-07E502D52495}" type="slidenum">
              <a:rPr b="0" lang="pl-P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357120" y="582480"/>
            <a:ext cx="85010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ПРОГРАММА ТРАНСГРАНИЧНОГО СОТРУДНИЧЕСТВА</a:t>
            </a:r>
            <a:br>
              <a:rPr sz="1800"/>
            </a:b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ПОЛЬША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БЕЛАРУСЬ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УКРАИНА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 2014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ГЛАВНЫЕ ПРАВИЛА РЕАЛИЗАЦИИ ПРОЕКТ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2-ГО КОНКУРСНОГО НАБОР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Calibri"/>
              </a:rPr>
              <a:t>ТРЕНИНГ ДЛЯ ЗАЯВИТЕЛЕЙ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206280" y="1793880"/>
            <a:ext cx="820908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едущий бенефициар получает финансирование от Программы на отдельный сч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ЕВРО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чет проекта дожен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авать возможность учета процентов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численных на сумму полученного транш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ы не возмещаются ОУ, их можно использовать на реализацию прое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асходы, связанные с реализацией проекта, должны легко идентифицироваться и прослеживаться (в т.ч,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писани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всех счетов, счет-фактур по проекту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гласно установленного образца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се бенефициары тщательно и регулярно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едут выделенные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бухгалтерские счета, предназначенные для реализации проекта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расходы, доходы, проценты и т.д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ПРАВЛЕНИЕ ФИНАНСАМИ В ПРОЕКТ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179280" y="98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БЫЛЬ И ДОХОДЫ В ПРОЕКТ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8280" y="1701720"/>
            <a:ext cx="836928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Целью гранта (проекта) и его результатом не может быть получение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енефициарами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БЫЛ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(profit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ибыль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(profit) =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разница между доходами и расхода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едущего бенефициар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енефициар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на момент подач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заявки на балансовый платеж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ОХОДЫ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(revenues) =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епосредственные денежные поступления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т пользователей продуктов и услуг, предоставленных в проекте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напр., за пользование инфраструктурой, созданной в проект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 участие в выставках, за вход на выставки или оплата за обучение)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ЧИСТЫЕ ДОХОДЫ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(net revenues)  =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оходы минус экспуатационные расходы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 algn="just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176040" indent="-176040">
              <a:tabLst>
                <a:tab algn="l" pos="0"/>
                <a:tab algn="l" pos="176040"/>
                <a:tab algn="l" pos="633240"/>
                <a:tab algn="l" pos="1090440"/>
                <a:tab algn="l" pos="1547640"/>
                <a:tab algn="l" pos="2004840"/>
                <a:tab algn="l" pos="2462040"/>
                <a:tab algn="l" pos="2919240"/>
                <a:tab algn="l" pos="3376440"/>
                <a:tab algn="l" pos="3833640"/>
                <a:tab algn="l" pos="4290840"/>
                <a:tab algn="l" pos="4748040"/>
                <a:tab algn="l" pos="5205240"/>
                <a:tab algn="l" pos="5662440"/>
                <a:tab algn="l" pos="6119640"/>
                <a:tab algn="l" pos="6576840"/>
                <a:tab algn="l" pos="7034040"/>
                <a:tab algn="l" pos="7491240"/>
                <a:tab algn="l" pos="7948440"/>
                <a:tab algn="l" pos="8405640"/>
                <a:tab algn="l" pos="886284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250920" y="981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УП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24000" y="1413000"/>
            <a:ext cx="8820000" cy="47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авовая баз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гламента по реализации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897/201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енефициары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PL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огласно польскому законодательству о государственных закупках 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авилам конкурентност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енефициары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BY, U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огласно ст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52-56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Р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еждународные организации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собственные процедур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се бенефициары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отсутствие конфликта интерес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одробно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в Программном руководстве </a:t>
            </a:r>
            <a:br>
              <a:rPr sz="2400"/>
            </a:b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(см. п.6.5 и Приложение 5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0920" y="90792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УП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24000" y="1413000"/>
            <a:ext cx="835164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Требования 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нефициарам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BY, UA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тсутствие конфликта интерес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едложения с оптимальным соотношением цена-качество или наименьшей цено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ограммные пороги для закупок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 20000 евро – т.нз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single tender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тчет с переговор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0000-60000 евро – конкурентная процедура выбора (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апрос 3 поставщикам, объявление на сайте бенефициара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случаях, когда применяются более строгие требования национального законодательства – выбор более строгих процеду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395280" y="1125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ИСПОЛЬЗОВАНИЕ СЭКОНОМЛЕННЫХ СРЕДСТ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4000" y="1943280"/>
            <a:ext cx="828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бережения могут быть использованы для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увеличени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масштаба проекта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или проведения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дополнительных мероприятий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использование сэкономленных средств должно дать эффект увеличения показателей (индикаторов) и принести большую пользу для целевых групп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88920">
              <a:buClr>
                <a:srgbClr val="000000"/>
              </a:buClr>
              <a:buFont typeface="Wingdings" charset="2"/>
              <a:buChar char="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ребуется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одписание дополнений к грантовому контракту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 определенных случаях – подачу необходимых запросов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79280" y="1052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В ПРОЕКТ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4000" y="1773360"/>
            <a:ext cx="835164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допускаются, но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и условиях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Не могут привести к значительным изменениям в целях проект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Не могут привести к изменениям условий признания гранта, имеющим влияние на принятие решения о финансировани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Изменение не может нарушить принцип равного подхода к проектам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нимани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:  ОУ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СТС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меет право внести возражения к изменениям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64960" indent="-177480"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1052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В ПРОЕКТ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Diagram 7" descr=""/>
          <p:cNvPicPr/>
          <p:nvPr/>
        </p:nvPicPr>
        <p:blipFill>
          <a:blip r:embed="rId2"/>
          <a:stretch/>
        </p:blipFill>
        <p:spPr>
          <a:xfrm>
            <a:off x="384120" y="1779480"/>
            <a:ext cx="844884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az 3" descr="ppt-2str.p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Symbol zastępczy zawartości 8"/>
          <p:cNvSpPr/>
          <p:nvPr/>
        </p:nvSpPr>
        <p:spPr>
          <a:xfrm>
            <a:off x="324000" y="1341360"/>
            <a:ext cx="8326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Помните, что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се инициативы и мероприятия, которые финансируюся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из европейских фондов, должны быть доступны для людей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 ограниченными возможностя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uk-UA" sz="1900" spc="-1" strike="noStrike" u="sng">
                <a:solidFill>
                  <a:srgbClr val="000000"/>
                </a:solidFill>
                <a:uFillTx/>
                <a:latin typeface="Calibri"/>
              </a:rPr>
              <a:t>Люди с инвалидностю имеют право на: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Доступ к информации о проектах ЕС: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  адаптация компьютеров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Соответственно подготовленные интернет-сайты - увеличение шрифта, контрастности;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uk-UA" sz="1900" spc="-1" strike="noStrike" u="sng">
                <a:solidFill>
                  <a:srgbClr val="000000"/>
                </a:solidFill>
                <a:uFillTx/>
                <a:latin typeface="Calibri"/>
              </a:rPr>
              <a:t>Легкий доступ к сооружениям: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автоматичестки открывающиеся двери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нескользкая поверхность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пандусы,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- освещение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rostokąt 4"/>
          <p:cNvSpPr/>
          <p:nvPr/>
        </p:nvSpPr>
        <p:spPr>
          <a:xfrm>
            <a:off x="395280" y="98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ЕВРОПЕЙСКИЕ ФОНДЫ БЕЗ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ГРАД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az 3" descr="ppt-2str.pdf"/>
          <p:cNvPicPr/>
          <p:nvPr/>
        </p:nvPicPr>
        <p:blipFill>
          <a:blip r:embed="rId1"/>
          <a:stretch/>
        </p:blipFill>
        <p:spPr>
          <a:xfrm>
            <a:off x="206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rostokąt 8"/>
          <p:cNvSpPr/>
          <p:nvPr/>
        </p:nvSpPr>
        <p:spPr>
          <a:xfrm>
            <a:off x="206280" y="9651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ЕВРОПЕЙСКИЕ ФОНДЫ БЕЗ ПРЕГРАД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Symbol zastępczy zawartości 8"/>
          <p:cNvSpPr/>
          <p:nvPr/>
        </p:nvSpPr>
        <p:spPr>
          <a:xfrm>
            <a:off x="206280" y="1488960"/>
            <a:ext cx="861372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астие у мороприятиях, конференциях, тренингах и семинарах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даптированная звуковая система для людей с проблемами слух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оответственно подготовленные материалы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ддержка в виде помощника, переводчик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Медленный темп речи/время необходимое для перевода на язык жестов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пециализованный транспорт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Легкая для понимания схема общественного транспорт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324000" y="981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ТЧЕТНОСТ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1484280"/>
            <a:ext cx="83692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КРАТКИЙ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ОПИСАТЕЛЬНЫЙ ОТЧЕТ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 реализации проекта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 период первой половины периода реализации проекта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ФИНАЛЬНЫЙ ОТЧЕТ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 реализации проекта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 позже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сяцев от завершения периода реализации проекта (описательный + финансовый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бразцы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– приложения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8, 9, 10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 Программному руководству для 2-го набора проектов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Курс обмена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 евро, применяемый в отчетах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енефициаров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 курсу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InforEuro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за месяц, в котором были понесены расходы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иск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потери от курсовых разниц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сет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енефициар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50920" y="182880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нтовый контрак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артнерское соглаше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Финансировани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купк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Изменения в проект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оступн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сть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тчетность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Ауди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и проверк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озврат средст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асторжение грантового контра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06280" y="1197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ЛАН ПРЕЗЕНТАЦ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УДИТ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95360" y="1544760"/>
            <a:ext cx="79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6400"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езависимые аудитор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– проверка и сертификаты расходов проекта в рамках финального отчета по проекту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оверки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СТС, КПК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мониторинговые визит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роверки других органов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Аудиторский орган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вропейская комисия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вропейское управление по борьбе с финансовыми нарушениями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другие компетентные учреждения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6400">
              <a:lnSpc>
                <a:spcPct val="100000"/>
              </a:lnSpc>
              <a:tabLst>
                <a:tab algn="l" pos="0"/>
                <a:tab algn="l" pos="177840"/>
                <a:tab algn="l" pos="635040"/>
                <a:tab algn="l" pos="1092240"/>
                <a:tab algn="l" pos="1549440"/>
                <a:tab algn="l" pos="2006640"/>
                <a:tab algn="l" pos="2463840"/>
                <a:tab algn="l" pos="2921040"/>
                <a:tab algn="l" pos="3378240"/>
                <a:tab algn="l" pos="3835440"/>
                <a:tab algn="l" pos="4292640"/>
                <a:tab algn="l" pos="4749840"/>
                <a:tab algn="l" pos="5207040"/>
                <a:tab algn="l" pos="5664240"/>
                <a:tab algn="l" pos="6121440"/>
                <a:tab algn="l" pos="6578640"/>
                <a:tab algn="l" pos="7035840"/>
                <a:tab algn="l" pos="7493040"/>
                <a:tab algn="l" pos="7950240"/>
                <a:tab algn="l" pos="8407440"/>
                <a:tab algn="l" pos="886464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роверки могут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проводится на протяжении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Arial"/>
              </a:rPr>
              <a:t>лет после балансового платеж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УДИТ И ПРОВЕР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932360" y="1484280"/>
            <a:ext cx="381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ЕЗАВИСИМЫЕ АУДИТОР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оверка расходов, представленны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нефициарами в отчетах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оверка реальности и приемлемости расходов, правильно ли описан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ертификат, потверждающий приемлемость понесенных расходов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дается вместе с финальным отчетом по проект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оцедуры представлены в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уководстве по проверке расход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Diagram 5" descr=""/>
          <p:cNvPicPr/>
          <p:nvPr/>
        </p:nvPicPr>
        <p:blipFill>
          <a:blip r:embed="rId2"/>
          <a:stretch/>
        </p:blipFill>
        <p:spPr>
          <a:xfrm>
            <a:off x="195120" y="1785960"/>
            <a:ext cx="475488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324000" y="90792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ВРАТ СРЕДСТ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1557360"/>
            <a:ext cx="813600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лучае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СЕРЬЕЗНЫХ ОШИБОК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РУШЕНИЙ ИЛИ МОШЕННИЧЕСТВА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огласно национальному законодательству или законодательству ЕС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умма к возврату определяется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ропорционально нарушению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озврат средств может проводиться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осредством уменьшения суммы балансового платеж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Если уменьшение суммы балансового платежа невозможно, Орган управления Программы выставляет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платежное требование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ажно, чтобы Партнерское соглашение регулировало вопросы и процедуры возмещения/возврата средств между бенефици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м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250920" y="981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ОРЖЕНИЕ КОНТРАК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68360" y="1544760"/>
            <a:ext cx="806436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сли ОУ или ВБ считае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что невозможно продолжить реализацию контракта эффективно и согласно его положения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оводятся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консультации сторон контра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сли не удается прийти к решению, то каждая сторона имеет право расторгнуть контракт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 2-месячным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едупреждением в письменной форм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ожет принять решение о расторжении контракта в одностороннем порядке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 случае серьезных нарушений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аких как: коррупция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частие в преступной организации или другой противозаконной деятельности, или в случае, есл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нефициар становится неплатежеспособным ил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находится в процессе банкротства т.п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Все случаи описаны в грантовом контракте</a:t>
            </a:r>
            <a:r>
              <a:rPr b="1" lang="pl-PL" sz="18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770040" y="2550960"/>
            <a:ext cx="812304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  <a:ea typeface="Arial"/>
              </a:rPr>
              <a:t>Спасибо</a:t>
            </a:r>
            <a:r>
              <a:rPr b="0" lang="pl-PL" sz="3600" spc="-1" strike="noStrike">
                <a:solidFill>
                  <a:srgbClr val="ffffff"/>
                </a:solidFill>
                <a:latin typeface="Calibri"/>
                <a:ea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  <a:ea typeface="Arial"/>
              </a:rPr>
              <a:t>СОВМЕСТНЫЙ ТЕХНИЧЕСКИЙ СЕКРЕТАРИА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Arial"/>
              </a:rPr>
              <a:t>Te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  <a:ea typeface="Arial"/>
              </a:rPr>
              <a:t>л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Arial"/>
              </a:rPr>
              <a:t>.. +48 22 378 31 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Arial"/>
              </a:rPr>
              <a:t>Email: pbu@pbu2020.e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50920" y="1557360"/>
            <a:ext cx="8569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buClr>
                <a:srgbClr val="1f497d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верка приемлемости бенефициар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1f497d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ыполнение рекомендаций СМК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если будут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доставление СТС необходимых документов для контра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в т.ч. приложения к контракту, подписанные ведущим бенефициаром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одготовка контракта –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на английском язык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одписание контракта сторонами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рганом Управления и Ведущим бенефициаром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осле подписания 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НТОВЫЙ КОНТРАКТ ДОЛЖЕН БЫТЬ ОБЯЗАТЕЛЬНО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РЕГИСТРИРОВАН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 БЕЛАРУСИ (в случае беларуских бенефициаров в проекте)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и/ил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 УКРАИНЕ (в случае украинских бенефициаров в проекте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&gt;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огласно действующему законодательству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ДПИСА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ТОВОГО КОНТРАК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4643280" y="5373720"/>
            <a:ext cx="4032360" cy="719280"/>
          </a:xfrm>
          <a:prstGeom prst="roundRect">
            <a:avLst>
              <a:gd name="adj" fmla="val 10000"/>
            </a:avLst>
          </a:prstGeom>
          <a:solidFill>
            <a:srgbClr val="c6d9f1"/>
          </a:solidFill>
          <a:ln cap="sq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1800" spc="-1" strike="noStrike">
                <a:solidFill>
                  <a:srgbClr val="3333cc"/>
                </a:solidFill>
                <a:latin typeface="Calibri"/>
              </a:rPr>
              <a:t>См: пп.7.4 и7.5 Программного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1800" spc="-1" strike="noStrike">
                <a:solidFill>
                  <a:srgbClr val="3333cc"/>
                </a:solidFill>
                <a:latin typeface="Calibri"/>
              </a:rPr>
              <a:t>Руководства для 2-го набор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rostokąt 6"/>
          <p:cNvSpPr/>
          <p:nvPr/>
        </p:nvSpPr>
        <p:spPr>
          <a:xfrm>
            <a:off x="236520" y="1049400"/>
            <a:ext cx="85406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ИЛОЖЕНИЯ, ТРЕБУЕМЫЕ ПЕРЕД ПОДПИСАНИЕМ ГРАНТОВОГО КОНТРАК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Symbol zastępczy zawartości 8"/>
          <p:cNvSpPr/>
          <p:nvPr/>
        </p:nvSpPr>
        <p:spPr>
          <a:xfrm>
            <a:off x="208080" y="2133720"/>
            <a:ext cx="790092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66760" indent="-26676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кументы, подтверждающие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емлемость Бенефициар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-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Устав или равноценный докумен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веренность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если требуется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)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лица, подписавшего Заявк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Регистрационные документы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правка 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з Госудаственного Судового Реестра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польских бенефициаро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;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правка из Единого Государственного Реестра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украинских бенефициаро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;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ртификат о госудаственной регистрации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ля беларуских бенефициаров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еклара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о наличии всех необходимых разрешений, касающихся объектов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мпонент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и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фраструктур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в электронной версии</a:t>
            </a:r>
            <a:r>
              <a:rPr b="0" i="1" lang="pl-PL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3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 algn="just">
              <a:lnSpc>
                <a:spcPct val="93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79280" y="1341360"/>
            <a:ext cx="856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тороны контракта (преамбула) и их адрес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2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ения термино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Цель контракта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) и период реализации проекта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4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артнерское соглашение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Финансирование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5), платежи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5), возврат средст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емлемость расходо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6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купки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1) и конфликт интересо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3)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изуализация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0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ства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7,8,10)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решение споров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2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несение изменений в контракт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Расторжение контракта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18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ЛОЖЕНИЯ: Описание проекта (№ 3), Бюджет проекта (№4), банковские реквизиты (№5),  доверенность (№1 и №2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1890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79280" y="836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ГРАНТОВЫЙ КОНТРАК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206280" y="1793880"/>
            <a:ext cx="839808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buClr>
                <a:srgbClr val="1f497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РОКИ ВЫПОЛНЕНИЯ КОНТРА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- контракт вступает в силу с дня подписания второй стороной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- контракт действителен до даты выплаты балансового платежа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месяцев от завершения периода реализации прое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ИОД РЕАЛИЗАЦИИ ПРОЕК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начинаетс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Calibri"/>
              <a:buAutoNum type="alphaLcParenR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ень следующий после дня подписания второй стороной,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Calibri"/>
              <a:buAutoNum type="alphaLcParenR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вый день месяца, следующий после дня выплаты авансового платежа,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buClr>
                <a:srgbClr val="000000"/>
              </a:buClr>
              <a:buFont typeface="Calibri"/>
              <a:buAutoNum type="alphaLcParenR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другая дата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канчиваетс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: через то количество месяцев реализации проекта, которое указано в грантовом контракт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just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ТОВ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НТРАК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3" descr="ppt-2str.p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Symbol zastępczy zawartości 8"/>
          <p:cNvSpPr/>
          <p:nvPr/>
        </p:nvSpPr>
        <p:spPr>
          <a:xfrm>
            <a:off x="250920" y="182880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rostokąt 7"/>
          <p:cNvSpPr/>
          <p:nvPr/>
        </p:nvSpPr>
        <p:spPr>
          <a:xfrm>
            <a:off x="206280" y="10699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PARTNERSTWO W PROJEKCI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50920" y="10746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ЦИП ВЕДУЩЕГО БЕНЕФИЦИА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image.png" descr="image.png"/>
          <p:cNvPicPr/>
          <p:nvPr/>
        </p:nvPicPr>
        <p:blipFill>
          <a:blip r:embed="rId2"/>
          <a:stretch/>
        </p:blipFill>
        <p:spPr>
          <a:xfrm>
            <a:off x="407880" y="1378080"/>
            <a:ext cx="825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56000" y="54936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ТНЕРСТВО В ПРОЕКТ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859280" y="1197000"/>
            <a:ext cx="3753000" cy="57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становленного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бразц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приложение 7 к Программному руководству для 2-го набора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Язык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английский обязательно (другие дополнительно  - допускается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язанности партнер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еделение задач между партнера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чий язык, коммуникация, конфиденциальност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юджет, платеж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емлемые расход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врат средст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трудничество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тьми сторона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Diagram 5" descr=""/>
          <p:cNvPicPr/>
          <p:nvPr/>
        </p:nvPicPr>
        <p:blipFill>
          <a:blip r:embed="rId2"/>
          <a:stretch/>
        </p:blipFill>
        <p:spPr>
          <a:xfrm>
            <a:off x="457200" y="1116000"/>
            <a:ext cx="444348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179280" y="1773360"/>
            <a:ext cx="8785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Бенефициар может выбрать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один из двух вариантов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платежей от ОУ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) АВАНСИРОВА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ранш в размере 85% суммы гранта на основании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аявки на платеж, установленого образца (доступен на сайте Программы)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Подтверждения одобрения/регистрации проекта в Беларуси (если требуется)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Партнерского соглашения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Других необходимых деклараци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балансовый платеж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) ВОЗМЕЩЕНИЕ РАСХОД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дноразовая выплата 100% фактической утвержденной суммы гранта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Выплата после утверждения  финального отчета по реализации проекта </a:t>
            </a:r>
            <a:br>
              <a:rPr sz="1800"/>
            </a:b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(в т.ч. сертификат аудитора, заявка на платеж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06280" y="1082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ИРОВАНИЕ ПРОЕК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11:08:20Z</dcterms:created>
  <dc:creator>Natalia Majewska</dc:creator>
  <dc:description/>
  <dc:language>en-US</dc:language>
  <cp:lastModifiedBy>Admin</cp:lastModifiedBy>
  <dcterms:modified xsi:type="dcterms:W3CDTF">2018-09-04T08:34:46Z</dcterms:modified>
  <cp:revision>420</cp:revision>
  <dc:subject/>
  <dc:title>Prezentacja programu PowerPoint</dc:title>
</cp:coreProperties>
</file>