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pl-P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627631-4115-43F7-887F-EF8DE9E96317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470CF04-9AA7-43FA-A069-67ABCAC3134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48FD64-241F-4767-BB9D-95EC8285264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leca się otwarcie konta nieoprocentowanego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C570D74-7379-41FA-A592-B5EDC1D4907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1D0930-CA04-4DB2-8ADF-36737CCF6CBC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chody muszą być wykazane w budżecie (etap FAF) i monitorowan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jekt nie może generować zysku przez 5 lat po jego zakończeniu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A9EEFA-8C46-479F-B024-029727A6A8D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2512D0-B797-439F-8712-D784657877B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8E8FB3-DD38-4393-9BD9-4D4A2C29F1C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676B9C0-3AC6-42CF-8CE3-420FB1A55C54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B8E02F-9B85-4AF0-BD48-4E6616260E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EECD08-01AC-4FF6-842D-5BA455EB7C7A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8E5AB4-C15B-4E8D-9353-1DACB8922F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B3AB4E3-FC40-4A94-ACF1-3C8D1702601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2C8978-7708-4897-8A35-7DBEECD9F8C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0D1FB5-4F53-48FA-BB4A-A3137DB87B0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DFF900-D255-44B7-9F3D-3C8BE580C3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18D3E6-6050-4D9D-A742-1FCD114DBFB7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zem z raportem pośrednim/końcowy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фіціари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mogą być poproszeni o wysłanie do WST dokumentów potwierdzających wydatki (będzie próba?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7D211C-E8AE-471D-85A2-A4316728191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B1CCEE-4D9D-431B-8BEA-B3671C9F18B4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F191AD-B3CD-4276-AD5A-0F90112EB912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6F59E0-5BC6-4241-A05C-2420FDCCC95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2117F5-AB3F-4975-9A88-E9DC8E878C8A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F7979C-DD64-449B-B7DA-31BC42232E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FFC1CB-D6B2-42E3-83B0-1889788B8C1F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51A7545-7F7F-49F7-9B52-B75D2049DCE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96B21D-DD02-4A58-B446-4AF80DF029BF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A8844C-8AB8-41D2-8A9E-B1D1FEF3FBD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761DEB-7262-4BB5-8F34-762D67E62A3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0AD195-58CE-4E2A-A976-A6C29D45F541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2209D4-3C99-41E7-BD61-009AC6B542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A35D2C-5412-4D26-BAA5-2B56B0A2CA4B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5CAB9B-0486-4043-BA1A-04D3660C3CA2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C7000D-FD4B-424E-8DD8-C0ACE1CE5D41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D0AFE1-5EE1-4F64-90D8-8F11CE372B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01154E-7DA1-47BA-8012-74BED9DA379B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26D8F38-1C38-41B5-822C-05DFC30660AC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5D6D4D-52DA-46B0-A31A-58C3053937B0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statnia płatność to 20% dofinansowania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фіціари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muszą zapewnić środki własn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407BA3-F7D3-45EF-B6D3-EDA7A309EB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AD01-6555-42FE-AB68-C34068B42E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DE67-6B80-47ED-BE09-330058F9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9A05-6802-49E8-880B-8BE7FABF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F1B93-D9C0-44D8-8240-9D6564FB24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973A-4C50-49F7-91A5-940078FD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8159-04AE-4AA6-8656-CBE44E39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B4E4-5E5E-45B6-9133-A79DA82A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368F-FAD4-4CAC-9A49-B179C0E7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5D73-94EE-407C-A699-F4D69E9A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A977-A73C-4922-8983-C3FF0FF2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C6449-F522-41EA-9755-2788F222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F39A-C904-4535-8D51-D104984A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3F10B9-60AF-49AF-864F-60F9FD05AA5C}" type="slidenum">
              <a:rPr b="0" lang="pl-P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357120" y="582480"/>
            <a:ext cx="85010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ПРОГРАМА ТРАНСКОРДОННОГО СПІВРОБІТНИЦТВА</a:t>
            </a:r>
            <a:br>
              <a:rPr sz="1800"/>
            </a:b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ПОЛЬЩА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БІЛОРУСЬ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УКРАЇНА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 2014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ГОЛОВНІ ПРАВИЛА РЕАЛІЗАЦІЇ ПРОЕКТІ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ЗАТВЕРДЖЕНИХ У 2-МУ КОНКУРСІ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Calibri"/>
              </a:rPr>
              <a:t>ТРЕНІНГ ДЛЯ ЗАЯВНИКІВ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206280" y="1793880"/>
            <a:ext cx="820908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Головний бенефіціар отримує фінансування від Програми на окремий рахунок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ЄВРО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ахунок проекту повинен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авати можливість обліку відсотків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рахованих на суми платеж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і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Накопичені на рахунку відсотки не належать ОУ, їх можна використати на реалізацію проекту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итрати, пов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  <a:ea typeface="Arial"/>
              </a:rPr>
              <a:t>'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язані з реалізацією проекту, повинні легко ідентифікуватися і відслідковуватися (зокрема,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пис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до всіх рахунків по проекту – відповідно до встановленого зразка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сі бенефіціар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етельно та регулярно ведуть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ідокремлені бухгалтерські рахунки, призначені  для реалізації проекту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витрати, кошти, доходи, відсотки і т.д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УПРАВЛІННЯ ФІНАНСАМИ В ПРОЕКТІ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БУТКИ І ДОХОДИ У ПРОЕКТІ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8280" y="1701720"/>
            <a:ext cx="8369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Метою гранту та його результатом не може бути отриманн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енефіціарами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БУТК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(profit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буток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(profit) =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різниця між доходами та витрата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головного бенефіціар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енефіціар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a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що виникла на етапі подачі заявки на кінцевий платіж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ОХОД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(revenues) =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безпосередні грошові надходження від користувачів продуктів та послуг, наданих у проекті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наприклад, за користування інфраструктурою, створеною в проекті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 участь у виставка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 вхід на виставки аб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плат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 послуги навчання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ЧИСТІ ДОХОДИ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(net revenues)  =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оходи мінус операційні витрат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 algn="just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250920" y="981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КУПІВЛІ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24000" y="1413000"/>
            <a:ext cx="8351640" cy="50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авова підстав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зділ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иконавчого розпорядження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897/201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инципи, обов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'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язкові дл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нефіціарів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енефіціари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PL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гідно з польським законодавством щодо здійснення державних закупівель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авилами конкурентності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енефіціари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BY, U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ідповідно до ст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52-56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Виконавчого розпорядженн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іжнародні організації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власні процедур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сі бенефіціари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відсутність конфлікту інтересі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Детально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в Посібнику (див. п.6.5.  та Додаток 5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0920" y="981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КУПІВЛІ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24000" y="1413000"/>
            <a:ext cx="835164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инципи, обов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'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язкові дл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нефіціарів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BY, UA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ідсутність конфлікту інтересі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опозиції з найкращим співвідношенням ціна-якість або з найнижчою ціно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ограмні пороги для закупівель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 20000 євро – т.зв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single tender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віт з переговорі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0000-60000 євро – конкурентна процедура вибору (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апит 3 постачальникам/виконавцям, оголошення на сайті бенефіцієнта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 випадках, коли стосуються більш сурові вимоги національного законодавства – вибір суровіших вимо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ИКОРИСТАННЯ ЗАОЩАДЖЕН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95360" y="1943280"/>
            <a:ext cx="792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ощадження можуть бути використані для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збільше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масштабу проекту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бо проведення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додаткових заходів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Їх використання повинно дати ефект зростання показників та збільшення користі для цільових груп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имагає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ідписання додатку до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грантового контракту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бо – для менших сум – подачу відповідних форм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МІНИ В ПРОЕКТІ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9640" y="1557360"/>
            <a:ext cx="792000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допускаються, але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и умовах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Не можуть вести до суттєвих змін у цілях проект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Не можуть змінювати умови присудження гранту, які діють на момент прийняття рішення про надання фінансування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Зміна не може порушувати принципів рівного підходу до проектів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Уваг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:  ОУ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СТС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має право внести застереження до змін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932360" y="5229360"/>
            <a:ext cx="3600360" cy="647640"/>
          </a:xfrm>
          <a:prstGeom prst="roundRect">
            <a:avLst>
              <a:gd name="adj" fmla="val 10000"/>
            </a:avLst>
          </a:prstGeom>
          <a:solidFill>
            <a:srgbClr val="c6d9f1"/>
          </a:solidFill>
          <a:ln cap="sq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1800" spc="-1" strike="noStrike">
                <a:solidFill>
                  <a:srgbClr val="3333cc"/>
                </a:solidFill>
                <a:latin typeface="Calibri"/>
              </a:rPr>
              <a:t>Детально:  див.п.10 Програмного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1800" spc="-1" strike="noStrike">
                <a:solidFill>
                  <a:srgbClr val="3333cc"/>
                </a:solidFill>
                <a:latin typeface="Calibri"/>
              </a:rPr>
              <a:t>посібника для 2-го конкурсу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МІНИ В ПРОЕКТІ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Diagram 7" descr=""/>
          <p:cNvPicPr/>
          <p:nvPr/>
        </p:nvPicPr>
        <p:blipFill>
          <a:blip r:embed="rId2"/>
          <a:stretch/>
        </p:blipFill>
        <p:spPr>
          <a:xfrm>
            <a:off x="378000" y="1773360"/>
            <a:ext cx="8070840" cy="44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az 3" descr="ppt-2str.p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Symbol zastępczy zawartości 8"/>
          <p:cNvSpPr/>
          <p:nvPr/>
        </p:nvSpPr>
        <p:spPr>
          <a:xfrm>
            <a:off x="206280" y="1488960"/>
            <a:ext cx="861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Па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ятайте, що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сі ініціативи і заходи, що фінансуються з європейських фондів, також мають бути доступним для людей з інвалідністю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uk-UA" sz="1900" spc="-1" strike="noStrike" u="sng">
                <a:solidFill>
                  <a:srgbClr val="000000"/>
                </a:solidFill>
                <a:uFillTx/>
                <a:latin typeface="Calibri"/>
              </a:rPr>
              <a:t>Особа з інвалідністю має право: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Доступу до інформації про проекти ЄС: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  адаптація комп'ютерів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належним чином підготовлені веб-сайти - можливість збільшення шрифту, контрастності;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uk-UA" sz="1900" spc="-1" strike="noStrike" u="sng">
                <a:solidFill>
                  <a:srgbClr val="000000"/>
                </a:solidFill>
                <a:uFillTx/>
                <a:latin typeface="Calibri"/>
              </a:rPr>
              <a:t>Легкий доступ до будівель: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автоматично відкриваються двері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неслизька поверхня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пандуси для інвалідних візків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освітлення, що забезпечує безпеку та відчуття впевненості тощо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rostokąt 4"/>
          <p:cNvSpPr/>
          <p:nvPr/>
        </p:nvSpPr>
        <p:spPr>
          <a:xfrm>
            <a:off x="395280" y="98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ЄВРОПЕЙСЬКІ ФОНДИ БЕЗ БА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ЄРІВ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raz 3" descr="ppt-2str.pdf"/>
          <p:cNvPicPr/>
          <p:nvPr/>
        </p:nvPicPr>
        <p:blipFill>
          <a:blip r:embed="rId1"/>
          <a:stretch/>
        </p:blipFill>
        <p:spPr>
          <a:xfrm>
            <a:off x="206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8"/>
          <p:cNvSpPr/>
          <p:nvPr/>
        </p:nvSpPr>
        <p:spPr>
          <a:xfrm>
            <a:off x="206280" y="9651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ЄВРОПЕЙСЬКІ ФОНДИ БЕЗ БА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ЄРІВ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Symbol zastępczy zawartości 8"/>
          <p:cNvSpPr/>
          <p:nvPr/>
        </p:nvSpPr>
        <p:spPr>
          <a:xfrm>
            <a:off x="206280" y="1488960"/>
            <a:ext cx="861372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асть у нарадах, конференціях, тренінгах та семінарах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даптована звукова система для людей з вадами слух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належним чином підготовлені та друковані матеріали для заходів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ідтримка у вигляді помічника, перекладач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повільнення темпу мови / збільшення часу, що виникає, наприклад, від необхідності перекладу на мову жестів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надання спеціалізованого транспорт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легка для розуміння схема громадського транспорт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324000" y="981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ВІТНІСТ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24000" y="1484280"/>
            <a:ext cx="83692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КОРОТКИЙ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ОПИСОВИЙ ЗВІТ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реалізації проекту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 період першої половини періоду реалізації проекту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КІНЦЕВИЙ ЗВІТ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реалізації проекту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дається протягом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ісяців від закінчення періоду реалізації проекту (описовий + фінансовий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Зразки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- 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додатках 8, 9, 10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о Програмного посібника для 2-го конкурсу проектів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Курс обміну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 євро, що стосується у звітах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енефіціарів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гідно з курсом, опублікованим на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InforEuro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за місяць, в якому була понесена витрат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изик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втрати від курсових різниць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с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енефіціар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50920" y="182880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нтовий догові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артнерська угод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Фінансування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купівлі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Зміни у проекті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оступн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ість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ітність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Ауди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евірк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ідшкодуванн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озірвання грантового контракту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06280" y="1197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ЛАН ПРЕЗЕНТАЦІЇ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АУДИТ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І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ЕРЕВІР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95360" y="1544760"/>
            <a:ext cx="79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6400"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езалежні аудитор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– перевірка та сертифікати витрат проекту в рамках кінцевого звіту по проект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еревірки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СТС, ККП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моніторингові візит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еревірки інших органів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Аудиторський орган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Європейська комісія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Європейське управління з пит. боротьби з фінансовими зловживаннями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інші компетентні установи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lnSpc>
                <a:spcPct val="100000"/>
              </a:lnSpc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еревірки можуть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відбуватися протягом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років після здійснення кінцевого платеж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АУДИТ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І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ЕРЕВІР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4714920" y="1544760"/>
            <a:ext cx="4076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ЕЗАЛЕЖНІ АУДИТОР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евірка витрат, представлени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нефіціарами у звітах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евіряють, чи витрати реальні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ідповідно описані і прийнятні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ертифікат, що посвідчує правильність понесених витра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лучається до звіту з реалізації проект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оцедури, описані в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осібнику з перевірки витра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Diagram 5" descr=""/>
          <p:cNvPicPr/>
          <p:nvPr/>
        </p:nvPicPr>
        <p:blipFill>
          <a:blip r:embed="rId2"/>
          <a:stretch/>
        </p:blipFill>
        <p:spPr>
          <a:xfrm>
            <a:off x="201600" y="1779480"/>
            <a:ext cx="4516560" cy="39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ІДШКОДУВАНН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95360" y="1752480"/>
            <a:ext cx="7920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випадку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СЕРЙОЗНИХ ПОМИЛОК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ОРУШЕНЬ АБО ШАХРАЙСТВА,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'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язаних з порушенням національного законодавства або законодавства ЄС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ума відшкодування визначається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ропорційно до величини порушення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ідшкодування може бути здійснене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шляхом зменшення суми кінцевого платеж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Якщо зменшення суми кінцевого платежу неможливе, Орган управління Програми виставляє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латіжну вимогу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ажливо, щоб у Партнерській угоді були прописані процедури відшкодування між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енефіціарам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ОЗІРВАННЯ КОНТРАКТ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68360" y="1544760"/>
            <a:ext cx="77230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що ОУ або ГБ вважає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що немає можливості продовжувати ефективно та відповідно виконувати умови договор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винен провести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консультації з іншою стороною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що не вдасться узгодити рішення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ожна зі сторін може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озірвати договір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 двомісячним попередженням у письмовій формі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оже прийняти рішення про розірвання контракту в односторонньому порядку і без відшкодування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у випадку серйозних порушень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аких як корупція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часть в злочинній організації або в іншій протизаконній діяльності, або кол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нефіціар стає несплатоспроможн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знаходиться у стані банкрутства тощ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Усі випадки описані в грантовому контракті</a:t>
            </a:r>
            <a:r>
              <a:rPr b="1" lang="pl-PL" sz="18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770040" y="2550960"/>
            <a:ext cx="6087960" cy="31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  <a:ea typeface="Arial"/>
              </a:rPr>
              <a:t>Дякуємо</a:t>
            </a:r>
            <a:r>
              <a:rPr b="0" lang="pl-PL" sz="3600" spc="-1" strike="noStrike">
                <a:solidFill>
                  <a:srgbClr val="ffffff"/>
                </a:solidFill>
                <a:latin typeface="Calibri"/>
                <a:ea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  <a:ea typeface="Arial"/>
              </a:rPr>
              <a:t>СПІЛЬНИЙ ТЕХНІЧНИЙ СЕКРЕТАРІА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Arial"/>
              </a:rPr>
              <a:t>Te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  <a:ea typeface="Arial"/>
              </a:rPr>
              <a:t>л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Arial"/>
              </a:rPr>
              <a:t>.. +48 22 378 31 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Arial"/>
              </a:rPr>
              <a:t>Email: pbu@pbu2020.e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50920" y="1557360"/>
            <a:ext cx="83995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buClr>
                <a:srgbClr val="1f497d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евірка прийнятності бенефіціарі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1f497d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иконання рекомендацій СМК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якщо будуть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ідготовка та надання СТС необхідних документів до договору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додатків до договору, підписаних головним бенефіціаром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ідготовка договору –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англійською мовою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ідписання договору сторонами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рганом Управління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та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Головним бенефіціаром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ісля підписання 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НТОВИЙ ДОГОВІР ПОВИНЕН БУТИ ОБО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ЯЗКОВО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РЕЄСТРОВАНИЙ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 БІЛОРУСІ (у випадку білоруських бенефіціарів в проекті)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та/або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 УКРАЇНІ (у випадку українських бенефіціарів в проекті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&gt;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ідповідно до чинних національних процеду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ІДПИСАНН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ГРАНТОВОГО ДОГОВОР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4643280" y="5373720"/>
            <a:ext cx="4032360" cy="719280"/>
          </a:xfrm>
          <a:prstGeom prst="roundRect">
            <a:avLst>
              <a:gd name="adj" fmla="val 10000"/>
            </a:avLst>
          </a:prstGeom>
          <a:solidFill>
            <a:srgbClr val="c6d9f1"/>
          </a:solidFill>
          <a:ln cap="sq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1800" spc="-1" strike="noStrike">
                <a:solidFill>
                  <a:srgbClr val="3333cc"/>
                </a:solidFill>
                <a:latin typeface="Calibri"/>
              </a:rPr>
              <a:t>Див: пп.7.4 та 7.5 Програмного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1800" spc="-1" strike="noStrike">
                <a:solidFill>
                  <a:srgbClr val="3333cc"/>
                </a:solidFill>
                <a:latin typeface="Calibri"/>
              </a:rPr>
              <a:t>Посібника</a:t>
            </a:r>
            <a:r>
              <a:rPr b="0" i="1" lang="pl-PL" sz="18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0" i="1" lang="uk-UA" sz="1800" spc="-1" strike="noStrike">
                <a:solidFill>
                  <a:srgbClr val="3333cc"/>
                </a:solidFill>
                <a:latin typeface="Calibri"/>
              </a:rPr>
              <a:t>для 2-го конкурсу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rostokąt 6"/>
          <p:cNvSpPr/>
          <p:nvPr/>
        </p:nvSpPr>
        <p:spPr>
          <a:xfrm>
            <a:off x="236520" y="1049400"/>
            <a:ext cx="85406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ОДАТКИ, ЯКІ ВИМАГАЮТЬСЯ ПЕРЕД ПІДПИСАННЯМ ГРАНТОВОГО ДОГОВОР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Symbol zastępczy zawartości 8"/>
          <p:cNvSpPr/>
          <p:nvPr/>
        </p:nvSpPr>
        <p:spPr>
          <a:xfrm>
            <a:off x="208080" y="2133720"/>
            <a:ext cx="790092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кументи, які підтверджують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йнятність Бенефіціар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-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атут або рівноцінний докумен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ручення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якщо необхідн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)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особи, яка підписує Заявк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Реєстраційні документи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витяг з Державного Судового Реєстр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польських бенефіціарі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;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відка з Єдиного Державного Реєстр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українських бенефіціарі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;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ртифікат про державну реєстрацію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білоруських бенефіціарі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еклараці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 наявність всіх необхідних дозволів стосовно о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єктів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мпоненті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інфраструктури та екологічної документації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в електронній версії</a:t>
            </a:r>
            <a:r>
              <a:rPr b="0" i="1" lang="pl-PL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103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103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79280" y="1341360"/>
            <a:ext cx="856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торони договору (преамбула) та іхні адреси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2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изначення терміні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Мета договору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) та період реалізації проекту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4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артнерська угода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Фінансування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5), платежі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5), повернення кошті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йнятність витрат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6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купівлі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1) та конфлікт інтересі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3)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ізуалізація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обо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язання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7,8,10)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вирішення спорі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2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несення змін до договору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озірвання договору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8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ОДАТКИ: Опис проекту (Додаток 3), Бюджет проекту (Додаток 4), банківські реквізити (Додаток 5),  довіреності (додаток 1 та 2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79280" y="836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ГРАНТОВИЙ ДОГОВІ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206280" y="1793880"/>
            <a:ext cx="839808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buClr>
                <a:srgbClr val="1f497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ТЕРМІН ВИКОНАННЯ ДОГОВОРУ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- Договір вступає в дію з датою його підписання другою стороною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- Договір дійсний до дати виплати кінцевого платежу або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місяців від завершення періоду реалізації проекту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ІОД РЕАЛІЗАЦІЇ ПРОЕКТУ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озпочинаєтьс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Calibri"/>
              <a:buAutoNum type="alphaLcParenR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наступний день після дати підписання другою стороною,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або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Calibri"/>
              <a:buAutoNum type="alphaLcParenR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ший день місяця, наступного після виплати авансового траншу,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або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Calibri"/>
              <a:buAutoNum type="alphaLcParenR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інший, пізніший термін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точна дат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кінчуєтьс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: через ту кількість місяців реалізації проекту, що вказана у грантовому договорі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ГРАНТОВ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ДОГОВІ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3" descr="ppt-2str.p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Symbol zastępczy zawartości 8"/>
          <p:cNvSpPr/>
          <p:nvPr/>
        </p:nvSpPr>
        <p:spPr>
          <a:xfrm>
            <a:off x="250920" y="182880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rostokąt 7"/>
          <p:cNvSpPr/>
          <p:nvPr/>
        </p:nvSpPr>
        <p:spPr>
          <a:xfrm>
            <a:off x="206280" y="10699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Microsoft YaHei"/>
              </a:rPr>
              <a:t>PARTNERSTWO W PROJEKCI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Diagram 1" descr=""/>
          <p:cNvPicPr/>
          <p:nvPr/>
        </p:nvPicPr>
        <p:blipFill>
          <a:blip r:embed="rId2"/>
          <a:stretch/>
        </p:blipFill>
        <p:spPr>
          <a:xfrm>
            <a:off x="407880" y="1390680"/>
            <a:ext cx="8255160" cy="4546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250920" y="10746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НЦИП ГОЛОВНОГО БЕНЕФІЦІА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10746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АРТНЕРСТВО В ПРОЕКТІ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859280" y="1346040"/>
            <a:ext cx="3753000" cy="53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становлений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зразок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одаток 7 до Програмного посібника для 2-го конкурсу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ова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англійська обовязково (інші додатково  - дозволено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Зміс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бов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'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зк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тнері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озподіл завдань між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тнера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йняття рішен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обоча мова, комунікація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конфіденційніст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юдже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тежі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йнятні витра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ідшкодування витра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івпраця з третіми особа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Diagram 5" descr=""/>
          <p:cNvPicPr/>
          <p:nvPr/>
        </p:nvPicPr>
        <p:blipFill>
          <a:blip r:embed="rId2"/>
          <a:stretch/>
        </p:blipFill>
        <p:spPr>
          <a:xfrm>
            <a:off x="401760" y="1652760"/>
            <a:ext cx="4456080" cy="47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179280" y="1773360"/>
            <a:ext cx="8613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Бенефіціар може вибрати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один з двох варіанті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тежі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ід О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) АВАНСУВАНН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ранш у розмірі 85% суми гранту на підставі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заявки на платіж, встановленого зразка, опублікованого на сайті Програми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підтвердження реєстрації проекту на Білорусі (якщо вимагається)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Партнерської угоди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інших необхідних деклараці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балансовий платіж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) ВІДШКОДУВАННЯ ВИТРА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дноразова виплата 100% належної суми гранту для проекту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Виплачується після затвердження  кінцевого звіту з реалізації проекту (разом із сертифікатом аудитора, заявкою на платіж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ФІНАНСУВАННЯ ПРОЕКТ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11:08:20Z</dcterms:created>
  <dc:creator>Natalia Majewska</dc:creator>
  <dc:description/>
  <dc:language>en-US</dc:language>
  <cp:lastModifiedBy>iryna_melnychuk</cp:lastModifiedBy>
  <dcterms:modified xsi:type="dcterms:W3CDTF">2018-09-04T10:03:31Z</dcterms:modified>
  <cp:revision>381</cp:revision>
  <dc:subject/>
  <dc:title>Prezentacja programu PowerPoint</dc:title>
</cp:coreProperties>
</file>