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pl-PL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FDDA632-3E8D-4D58-8148-8427282A0C72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0F3E367-5E5D-458B-A989-7F05C89A77D3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33570A0-4A9D-4878-916E-F64A7C38D4F5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Zaleca się otwarcie konta nieoprocentowanego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63CFE28-A7F4-4951-A24C-3FDC10B9A581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8201AEE-41D8-4CA4-BD82-8732970FC6AA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Przychody muszą być wykazane w budżecie (etap FAF) i monitorowan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Projekt nie może generować zysku przez 5 lat po jego zakończeniu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0CDCC1D-2985-45A6-82D4-C0ED1F7F543D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B917AD0-4D85-4BB5-9221-E44E50770246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DE9C229-4BE4-4667-AF51-F00A5AF1CCAC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CBAEC9A-48AD-4527-81A7-DBCC4ED67CC7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C6F020D-0267-4AA8-9112-7A6C7317004C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F9BF807-591B-4A25-A2FE-040035AE229B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5742D01-8E5A-4921-A008-3B8B9027F1B4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75202FB-49C6-41CC-8060-8B7A50D615E0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A74C2C8-AD38-4280-8B54-921CA4D3082D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F67004E-42ED-4E72-BF9F-7BFF78AA9859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F1A3744-EF71-4BE4-82DF-0E2621F12EB3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EE3D2C8-4800-42AB-B18B-29A103195F83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Razem z raportem pośrednim/końcowym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Бенефіціари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mogą być poproszeni o wysłanie do WST dokumentów potwierdzających wydatki (będzie próba?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65C2DA3-3B19-4AB1-B7A3-2EF661561E11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A917A99-39C5-4E0C-9E54-DC590B685617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62BF689-727F-4CF9-9AE2-EFD0830A77CB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DF5165D-1EA5-4EFE-A3AE-90DA4DE37B27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61A3738-849A-405F-A778-0C6ABAD58689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B5A1EB9-53BC-426D-BC9E-EFE24835CB1D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DE7A00A-7C79-423B-94BC-6EA8474A4310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5C077E9-A659-4860-B73E-1F3F2BB2253A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2366065-D680-47B8-A68C-1C192DC25E22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6B05DED-F29F-4798-85ED-2AF72EEE1DFB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C21947B-E2E5-4316-B0F8-983CD36EBA85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DCFFAAC-FCE1-4B0D-95DF-848A1AF5FB6F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E26D0FB-BAF1-48AE-93E1-7558B46369FD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6E1D7C5-FB39-477A-B688-A9579983E179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09E3FDF-58BD-42FE-87D4-09A013F3D6C6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5469AEE-9E55-4CBF-A636-12A64A3BE499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AF1D8A1-51D9-4D10-8FFF-106EDB29D21E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ymbol zastępczy numeru slajdu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4F4F4A3-528B-414B-8089-C50506974045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8BFF404-49C1-4DAA-8BAE-F672D09F651D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33F0E7C-1032-45C3-A63E-309668C36D50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Ostatnia płatność to 20% dofinansowania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Бенефіціари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muszą zapewnić środki własn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4A3D4D4-61A3-4E5C-8726-CCB0FA3EBB0A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29C19-A970-4E7E-91E6-264F476AA8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23479-2840-4AB1-B1F0-B854C91C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29917-D9F7-464D-B407-7C787639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B1398-4B31-4884-943F-49EC3E7098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72F50-08E3-4A75-A4D1-954D0B1F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08013-88CD-45AD-88A9-928B014B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70335-3B3E-404E-B726-C28924EB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C2BEA-3A42-4CB1-84A8-763FA921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31711-2843-4BD9-8879-EEB1968D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59868-AC6D-4660-B6E8-CBA31593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E00D4-F118-4518-B201-00EF4AD1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75EB1-6C91-4B98-B67B-DD1C5A68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0EE6626-DFA9-445A-A1C3-A1872FC9AD89}" type="slidenum">
              <a:rPr b="0" lang="pl-PL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357120" y="582480"/>
            <a:ext cx="850104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ПРОГРАММА ТРАНСГРАНИЧНОГО СОТРУДНИЧЕСТВА</a:t>
            </a:r>
            <a:br>
              <a:rPr sz="1800"/>
            </a:b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ПОЛЬША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БЕЛАРУСЬ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УКРАИНА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  2014-202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alibri"/>
              </a:rPr>
              <a:t>ГЛАВНЫЕ ПРАВИЛА РЕАЛИЗАЦИИ ПРОЕКТОВ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Calibri"/>
              </a:rPr>
              <a:t>2-ГО КОНКУРСНОГО НАБОР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700" spc="-1" strike="noStrike">
                <a:solidFill>
                  <a:srgbClr val="ffffff"/>
                </a:solidFill>
                <a:latin typeface="Calibri"/>
              </a:rPr>
              <a:t>ТРЕНИНГ ДЛЯ ЗАЯВИТЕЛЕЙ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"/>
          <p:cNvSpPr/>
          <p:nvPr/>
        </p:nvSpPr>
        <p:spPr>
          <a:xfrm>
            <a:off x="206280" y="1793880"/>
            <a:ext cx="8209080" cy="41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едущий бенефициар получает финансирование от Программы на отдельный сче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 ЕВРО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Счет проекта дожен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давать возможность учета процентов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начисленных на сумму полученного транш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роценты не возмещаются ОУ, их можно использовать на реализацию проект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Расходы, связанные с реализацией проекта, должны легко идентифицироваться и прослеживаться (в т.ч,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описания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всех счетов, счет-фактур по проекту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согласно установленного образца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се бенефициары тщательно и регулярно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ведут выделенные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бухгалтерские счета, предназначенные для реализации проекта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(расходы, доходы, проценты и т.д.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ctr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ctr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06280" y="10825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УПРАВЛЕНИЕ ФИНАНСАМИ В ПРОЕКТ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179280" y="981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БЫЛЬ И ДОХОДЫ В ПРОЕКТ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68280" y="1701720"/>
            <a:ext cx="836928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Целью гранта (проекта) и его результатом не может быть получение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бенефициарами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РИБЫЛ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(profit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76040" indent="-176040"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76040" indent="-176040"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рибыль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(profit) =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разница между доходами и расходам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едущего бенефициар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бенефициар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на момент подачи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заявки на балансовый платеж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76040" indent="-176040"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ДОХОДЫ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(revenues) =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непосредственные денежные поступления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от пользователей продуктов и услуг, предоставленных в проекте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напр., за пользование инфраструктурой, созданной в проект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за участие в выставках, за вход на выставки или оплата за обучение)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76040" indent="-176040"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ЧИСТЫЕ ДОХОДЫ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(net revenues)  =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доходы минус экспуатационные расходы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76040" indent="-176040" algn="just"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marL="176040" indent="-176040"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250920" y="98100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УПК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24000" y="1413000"/>
            <a:ext cx="8820000" cy="47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равовая баз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Раздел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гламента по реализации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897/2014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Бенефициары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 PL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огласно польскому законодательству о государственных закупках 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равилам конкурентности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Бенефициары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 BY, U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огласно ст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 52-56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РР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Международные организации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– собственные процедур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Все бенефициары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– отсутствие конфликта интересо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Подробно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- в Программном руководстве </a:t>
            </a:r>
            <a:br>
              <a:rPr sz="2400"/>
            </a:b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(см. п.6.5 и Приложение 5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250920" y="90792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УПК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24000" y="1413000"/>
            <a:ext cx="8351640" cy="53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Требования к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нефициарам </a:t>
            </a: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BY, UA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тсутствие конфликта интересо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редложения с оптимальным соотношением цена-качество или наименьшей цено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рограммные пороги для закупок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о 20000 евро – т.нз.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single tender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тчет с переговоро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0000-60000 евро – конкурентная процедура выбора (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запрос 3 поставщикам, объявление на сайте бенефициара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 случаях, когда применяются более строгие требования национального законодательства – выбор более строгих процедур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395280" y="112536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ИСПОЛЬЗОВАНИЕ СЭКОНОМЛЕННЫХ СРЕДСТВ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24000" y="1943280"/>
            <a:ext cx="8280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88920">
              <a:buClr>
                <a:srgbClr val="000000"/>
              </a:buClr>
              <a:buFont typeface="Wingdings" charset="2"/>
              <a:buChar char="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сбережения могут быть использованы для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увеличение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масштаба проекта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или проведения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дополнительных мероприятий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64960" indent="-88920">
              <a:buClr>
                <a:srgbClr val="000000"/>
              </a:buClr>
              <a:buFont typeface="Wingdings" charset="2"/>
              <a:buChar char="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64960" indent="-88920">
              <a:buClr>
                <a:srgbClr val="000000"/>
              </a:buClr>
              <a:buFont typeface="Wingdings" charset="2"/>
              <a:buChar char="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использование сэкономленных средств должно дать эффект увеличения показателей (индикаторов) и принести большую пользу для целевых групп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64960" indent="-88920">
              <a:buClr>
                <a:srgbClr val="000000"/>
              </a:buClr>
              <a:buFont typeface="Wingdings" charset="2"/>
              <a:buChar char="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64960" indent="-88920">
              <a:buClr>
                <a:srgbClr val="000000"/>
              </a:buClr>
              <a:buFont typeface="Wingdings" charset="2"/>
              <a:buChar char="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требуется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подписание дополнений к грантовому контракту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– в определенных случаях – подачу необходимых запросов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179280" y="1052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ЕНИЯ В ПРОЕКТ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24000" y="1773360"/>
            <a:ext cx="8351640" cy="38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177480">
              <a:tabLst>
                <a:tab algn="l" pos="0"/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допускаются, но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при условиях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64960" indent="-177480">
              <a:tabLst>
                <a:tab algn="l" pos="0"/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64960" indent="-177480">
              <a:buClr>
                <a:srgbClr val="000000"/>
              </a:buClr>
              <a:buFont typeface="Arial"/>
              <a:buChar char="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Не могут привести к значительным изменениям в целях проекта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64960" indent="-177480">
              <a:tabLst>
                <a:tab algn="l" pos="0"/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64960" indent="-177480">
              <a:buClr>
                <a:srgbClr val="000000"/>
              </a:buClr>
              <a:buFont typeface="Arial"/>
              <a:buChar char="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Не могут привести к изменениям условий признания гранта, имеющим влияние на принятие решения о финансировании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64960" indent="-177480">
              <a:buClr>
                <a:srgbClr val="000000"/>
              </a:buClr>
              <a:buFont typeface="Arial"/>
              <a:buChar char="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64960" indent="-177480">
              <a:buClr>
                <a:srgbClr val="000000"/>
              </a:buClr>
              <a:buFont typeface="Arial"/>
              <a:buChar char="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Изменение не может нарушить принцип равного подхода к проектам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64960" indent="-177480">
              <a:buClr>
                <a:srgbClr val="000000"/>
              </a:buClr>
              <a:buFont typeface="Arial"/>
              <a:buChar char="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64960" indent="-177480">
              <a:tabLst>
                <a:tab algn="l" pos="0"/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Внимание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:  ОУ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СТС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меет право внести возражения к изменениям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64960" indent="-177480">
              <a:tabLst>
                <a:tab algn="l" pos="0"/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10526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ЕНИЯ В ПРОЕКТ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Diagram 7" descr=""/>
          <p:cNvPicPr/>
          <p:nvPr/>
        </p:nvPicPr>
        <p:blipFill>
          <a:blip r:embed="rId2"/>
          <a:stretch/>
        </p:blipFill>
        <p:spPr>
          <a:xfrm>
            <a:off x="384120" y="1779480"/>
            <a:ext cx="844884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raz 3" descr="ppt-2str.pd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Symbol zastępczy zawartości 8"/>
          <p:cNvSpPr/>
          <p:nvPr/>
        </p:nvSpPr>
        <p:spPr>
          <a:xfrm>
            <a:off x="324000" y="1341360"/>
            <a:ext cx="8326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Помните, что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се инициативы и мероприятия, которые финансируюся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из европейских фондов, должны быть доступны для людей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с ограниченными возможностям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uk-UA" sz="1900" spc="-1" strike="noStrike" u="sng">
                <a:solidFill>
                  <a:srgbClr val="000000"/>
                </a:solidFill>
                <a:uFillTx/>
                <a:latin typeface="Calibri"/>
              </a:rPr>
              <a:t>Люди с инвалидностю имеют право на: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Доступ к информации о проектах ЕС: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-   адаптация компьютеров,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- Соответственно подготовленные интернет-сайты - увеличение шрифта, контрастности;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uk-UA" sz="1900" spc="-1" strike="noStrike" u="sng">
                <a:solidFill>
                  <a:srgbClr val="000000"/>
                </a:solidFill>
                <a:uFillTx/>
                <a:latin typeface="Calibri"/>
              </a:rPr>
              <a:t>Легкий доступ к сооружениям: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- автоматичестки открывающиеся двери,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- нескользкая поверхность,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- пандусы,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- освещение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rostokąt 4"/>
          <p:cNvSpPr/>
          <p:nvPr/>
        </p:nvSpPr>
        <p:spPr>
          <a:xfrm>
            <a:off x="395280" y="981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4040" indent="-284040"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ЕВРОПЕЙСКИЕ ФОНДЫ БЕЗ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ГРАД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az 3" descr="ppt-2str.pdf"/>
          <p:cNvPicPr/>
          <p:nvPr/>
        </p:nvPicPr>
        <p:blipFill>
          <a:blip r:embed="rId1"/>
          <a:stretch/>
        </p:blipFill>
        <p:spPr>
          <a:xfrm>
            <a:off x="206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rostokąt 8"/>
          <p:cNvSpPr/>
          <p:nvPr/>
        </p:nvSpPr>
        <p:spPr>
          <a:xfrm>
            <a:off x="206280" y="96516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4040" indent="-284040"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ЕВРОПЕЙСКИЕ ФОНДЫ БЕЗ ПРЕГРАД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Symbol zastępczy zawartości 8"/>
          <p:cNvSpPr/>
          <p:nvPr/>
        </p:nvSpPr>
        <p:spPr>
          <a:xfrm>
            <a:off x="206280" y="1488960"/>
            <a:ext cx="8613720" cy="45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2667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астие у мороприятиях, конференциях, тренингах и семинарах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2667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Адаптированная звуковая система для людей с проблемами слуха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2667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Соответственно подготовленные материалы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2667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Поддержка в виде помощника, переводчика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2667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Медленный темп речи/время необходимое для перевода на язык жестов;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2667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Специализованный транспорт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2667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Легкая для понимания схема общественного транспорта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324000" y="98100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ТЧЕТНОСТЬ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24000" y="1484280"/>
            <a:ext cx="836928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КРАТКИЙ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ОПИСАТЕЛЬНЫЙ ОТЧЕТ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о реализации проекта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а период первой половины периода реализации проекта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ФИНАЛЬНЫЙ ОТЧЕТ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о реализации проекта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е позже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есяцев от завершения периода реализации проекта (описательный + финансовый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Образцы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– приложения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8, 9, 10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к Программному руководству для 2-го набора проектов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Курс обмена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а евро, применяемый в отчетах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енефициаров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о курсу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InforEuro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за месяц, в котором были понесены расходы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Риск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 потери от курсовых разниц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есет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енефициар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250920" y="1828800"/>
            <a:ext cx="8569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Грантовый контрак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артнерское соглашени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Финансировани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Закупки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Изменения в проект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Доступн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ость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Отчетность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Аудит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и проверк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озврат средств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Расторжение грантового контракт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ctr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06280" y="1197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ЛАН ПРЕЗЕНТАЦИ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206280" y="10825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УДИТ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К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95360" y="1544760"/>
            <a:ext cx="7920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6400">
              <a:tabLst>
                <a:tab algn="l" pos="0"/>
                <a:tab algn="l" pos="177840"/>
                <a:tab algn="l" pos="635040"/>
                <a:tab algn="l" pos="1092240"/>
                <a:tab algn="l" pos="1549440"/>
                <a:tab algn="l" pos="2006640"/>
                <a:tab algn="l" pos="2463840"/>
                <a:tab algn="l" pos="2921040"/>
                <a:tab algn="l" pos="3378240"/>
                <a:tab algn="l" pos="3835440"/>
                <a:tab algn="l" pos="4292640"/>
                <a:tab algn="l" pos="4749840"/>
                <a:tab algn="l" pos="5207040"/>
                <a:tab algn="l" pos="5664240"/>
                <a:tab algn="l" pos="6121440"/>
                <a:tab algn="l" pos="6578640"/>
                <a:tab algn="l" pos="7035840"/>
                <a:tab algn="l" pos="7493040"/>
                <a:tab algn="l" pos="7950240"/>
                <a:tab algn="l" pos="8407440"/>
                <a:tab algn="l" pos="886464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177840" indent="-17640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635040"/>
                <a:tab algn="l" pos="1092240"/>
                <a:tab algn="l" pos="1549440"/>
                <a:tab algn="l" pos="2006640"/>
                <a:tab algn="l" pos="2463840"/>
                <a:tab algn="l" pos="2921040"/>
                <a:tab algn="l" pos="3378240"/>
                <a:tab algn="l" pos="3835440"/>
                <a:tab algn="l" pos="4292640"/>
                <a:tab algn="l" pos="4749840"/>
                <a:tab algn="l" pos="5207040"/>
                <a:tab algn="l" pos="5664240"/>
                <a:tab algn="l" pos="6121440"/>
                <a:tab algn="l" pos="6578640"/>
                <a:tab algn="l" pos="7035840"/>
                <a:tab algn="l" pos="7493040"/>
                <a:tab algn="l" pos="7950240"/>
                <a:tab algn="l" pos="8407440"/>
                <a:tab algn="l" pos="886464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Независимые аудиторы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– проверка и сертификаты расходов проекта в рамках финального отчета по проекту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177840" indent="-17640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635040"/>
                <a:tab algn="l" pos="1092240"/>
                <a:tab algn="l" pos="1549440"/>
                <a:tab algn="l" pos="2006640"/>
                <a:tab algn="l" pos="2463840"/>
                <a:tab algn="l" pos="2921040"/>
                <a:tab algn="l" pos="3378240"/>
                <a:tab algn="l" pos="3835440"/>
                <a:tab algn="l" pos="4292640"/>
                <a:tab algn="l" pos="4749840"/>
                <a:tab algn="l" pos="5207040"/>
                <a:tab algn="l" pos="5664240"/>
                <a:tab algn="l" pos="6121440"/>
                <a:tab algn="l" pos="6578640"/>
                <a:tab algn="l" pos="7035840"/>
                <a:tab algn="l" pos="7493040"/>
                <a:tab algn="l" pos="7950240"/>
                <a:tab algn="l" pos="8407440"/>
                <a:tab algn="l" pos="886464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177840" indent="-17640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635040"/>
                <a:tab algn="l" pos="1092240"/>
                <a:tab algn="l" pos="1549440"/>
                <a:tab algn="l" pos="2006640"/>
                <a:tab algn="l" pos="2463840"/>
                <a:tab algn="l" pos="2921040"/>
                <a:tab algn="l" pos="3378240"/>
                <a:tab algn="l" pos="3835440"/>
                <a:tab algn="l" pos="4292640"/>
                <a:tab algn="l" pos="4749840"/>
                <a:tab algn="l" pos="5207040"/>
                <a:tab algn="l" pos="5664240"/>
                <a:tab algn="l" pos="6121440"/>
                <a:tab algn="l" pos="6578640"/>
                <a:tab algn="l" pos="7035840"/>
                <a:tab algn="l" pos="7493040"/>
                <a:tab algn="l" pos="7950240"/>
                <a:tab algn="l" pos="8407440"/>
                <a:tab algn="l" pos="886464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П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роверки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СТС, КПК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мониторинговые визиты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177840" indent="-176400">
              <a:tabLst>
                <a:tab algn="l" pos="0"/>
                <a:tab algn="l" pos="177840"/>
                <a:tab algn="l" pos="635040"/>
                <a:tab algn="l" pos="1092240"/>
                <a:tab algn="l" pos="1549440"/>
                <a:tab algn="l" pos="2006640"/>
                <a:tab algn="l" pos="2463840"/>
                <a:tab algn="l" pos="2921040"/>
                <a:tab algn="l" pos="3378240"/>
                <a:tab algn="l" pos="3835440"/>
                <a:tab algn="l" pos="4292640"/>
                <a:tab algn="l" pos="4749840"/>
                <a:tab algn="l" pos="5207040"/>
                <a:tab algn="l" pos="5664240"/>
                <a:tab algn="l" pos="6121440"/>
                <a:tab algn="l" pos="6578640"/>
                <a:tab algn="l" pos="7035840"/>
                <a:tab algn="l" pos="7493040"/>
                <a:tab algn="l" pos="7950240"/>
                <a:tab algn="l" pos="8407440"/>
                <a:tab algn="l" pos="886464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177840" indent="-17640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635040"/>
                <a:tab algn="l" pos="1092240"/>
                <a:tab algn="l" pos="1549440"/>
                <a:tab algn="l" pos="2006640"/>
                <a:tab algn="l" pos="2463840"/>
                <a:tab algn="l" pos="2921040"/>
                <a:tab algn="l" pos="3378240"/>
                <a:tab algn="l" pos="3835440"/>
                <a:tab algn="l" pos="4292640"/>
                <a:tab algn="l" pos="4749840"/>
                <a:tab algn="l" pos="5207040"/>
                <a:tab algn="l" pos="5664240"/>
                <a:tab algn="l" pos="6121440"/>
                <a:tab algn="l" pos="6578640"/>
                <a:tab algn="l" pos="7035840"/>
                <a:tab algn="l" pos="7493040"/>
                <a:tab algn="l" pos="7950240"/>
                <a:tab algn="l" pos="8407440"/>
                <a:tab algn="l" pos="886464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Проверки других органов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Аудиторский орган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вропейская комисия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вропейское управление по борьбе с финансовыми нарушениями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другие компетентные учреждения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177840" indent="-176400">
              <a:tabLst>
                <a:tab algn="l" pos="0"/>
                <a:tab algn="l" pos="177840"/>
                <a:tab algn="l" pos="635040"/>
                <a:tab algn="l" pos="1092240"/>
                <a:tab algn="l" pos="1549440"/>
                <a:tab algn="l" pos="2006640"/>
                <a:tab algn="l" pos="2463840"/>
                <a:tab algn="l" pos="2921040"/>
                <a:tab algn="l" pos="3378240"/>
                <a:tab algn="l" pos="3835440"/>
                <a:tab algn="l" pos="4292640"/>
                <a:tab algn="l" pos="4749840"/>
                <a:tab algn="l" pos="5207040"/>
                <a:tab algn="l" pos="5664240"/>
                <a:tab algn="l" pos="6121440"/>
                <a:tab algn="l" pos="6578640"/>
                <a:tab algn="l" pos="7035840"/>
                <a:tab algn="l" pos="7493040"/>
                <a:tab algn="l" pos="7950240"/>
                <a:tab algn="l" pos="8407440"/>
                <a:tab algn="l" pos="886464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177840" indent="-176400">
              <a:lnSpc>
                <a:spcPct val="100000"/>
              </a:lnSpc>
              <a:tabLst>
                <a:tab algn="l" pos="0"/>
                <a:tab algn="l" pos="177840"/>
                <a:tab algn="l" pos="635040"/>
                <a:tab algn="l" pos="1092240"/>
                <a:tab algn="l" pos="1549440"/>
                <a:tab algn="l" pos="2006640"/>
                <a:tab algn="l" pos="2463840"/>
                <a:tab algn="l" pos="2921040"/>
                <a:tab algn="l" pos="3378240"/>
                <a:tab algn="l" pos="3835440"/>
                <a:tab algn="l" pos="4292640"/>
                <a:tab algn="l" pos="4749840"/>
                <a:tab algn="l" pos="5207040"/>
                <a:tab algn="l" pos="5664240"/>
                <a:tab algn="l" pos="6121440"/>
                <a:tab algn="l" pos="6578640"/>
                <a:tab algn="l" pos="7035840"/>
                <a:tab algn="l" pos="7493040"/>
                <a:tab algn="l" pos="7950240"/>
                <a:tab algn="l" pos="8407440"/>
                <a:tab algn="l" pos="886464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проверки могут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проводится на протяжении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7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лет после балансового платежа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206280" y="10825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УДИТ И ПРОВЕРК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4932360" y="1484280"/>
            <a:ext cx="3817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НЕЗАВИСИМЫЕ АУДИТОРЫ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роверка расходов, представленных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енефициарами в отчетах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роверка реальности и приемлемости расходов, правильно ли описаны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ертификат, потверждающий приемлемость понесенных расходов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одается вместе с финальным отчетом по проект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роцедуры представлены в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Руководстве по проверке расходов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5" name="Diagram 5" descr=""/>
          <p:cNvPicPr/>
          <p:nvPr/>
        </p:nvPicPr>
        <p:blipFill>
          <a:blip r:embed="rId2"/>
          <a:stretch/>
        </p:blipFill>
        <p:spPr>
          <a:xfrm>
            <a:off x="195120" y="1785960"/>
            <a:ext cx="4754880" cy="39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324000" y="90792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ВРАТ СРЕДСТВ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68360" y="1557360"/>
            <a:ext cx="813600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лучае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СЕРЬЕЗНЫХ ОШИБОК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АРУШЕНИЙ ИЛИ МОШЕННИЧЕСТВА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согласно национальному законодательству или законодательству ЕС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Сумма к возврату определяется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пропорционально нарушению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озврат средств может проводиться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посредством уменьшения суммы балансового платежа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Если уменьшение суммы балансового платежа невозможно, Орган управления Программы выставляет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платежное требование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ажно, чтобы Партнерское соглашение регулировало вопросы и процедуры возмещения/возврата средств между бенефици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ми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250920" y="98100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ТОРЖЕНИЕ КОНТРАКТ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68360" y="1544760"/>
            <a:ext cx="806436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Если ОУ или ВБ считает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что невозможно продолжить реализацию контракта эффективно и согласно его положениям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роводятся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консультации сторон контракт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Если не удается прийти к решению, то каждая сторона имеет право расторгнуть контракт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с 2-месячным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редупреждением в письменной форм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может принять решение о расторжении контракта в одностороннем порядке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в случае серьезных нарушений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таких как: коррупция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участие в преступной организации или другой противозаконной деятельности, или в случае, есл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енефициар становится неплатежеспособным или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находится в процессе банкротства т.п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Calibri"/>
              </a:rPr>
              <a:t>Все случаи описаны в грантовом контракте</a:t>
            </a:r>
            <a:r>
              <a:rPr b="1" lang="pl-PL" sz="18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770040" y="2550960"/>
            <a:ext cx="812304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libri"/>
                <a:ea typeface="Arial"/>
              </a:rPr>
              <a:t>Спасибо</a:t>
            </a:r>
            <a:r>
              <a:rPr b="0" lang="pl-PL" sz="3600" spc="-1" strike="noStrike">
                <a:solidFill>
                  <a:srgbClr val="ffffff"/>
                </a:solidFill>
                <a:latin typeface="Calibri"/>
                <a:ea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alibri"/>
                <a:ea typeface="Arial"/>
              </a:rPr>
              <a:t>СОВМЕСТНЫЙ ТЕХНИЧЕСКИЙ СЕКРЕТАРИА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  <a:ea typeface="Arial"/>
              </a:rPr>
              <a:t>Te</a:t>
            </a:r>
            <a:r>
              <a:rPr b="0" lang="uk-UA" sz="1800" spc="-1" strike="noStrike">
                <a:solidFill>
                  <a:srgbClr val="ffffff"/>
                </a:solidFill>
                <a:latin typeface="Calibri"/>
                <a:ea typeface="Arial"/>
              </a:rPr>
              <a:t>л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  <a:ea typeface="Arial"/>
              </a:rPr>
              <a:t>.. +48 22 378 31 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  <a:ea typeface="Arial"/>
              </a:rPr>
              <a:t>Email: pbu@pbu2020.eu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"/>
          <p:cNvSpPr/>
          <p:nvPr/>
        </p:nvSpPr>
        <p:spPr>
          <a:xfrm>
            <a:off x="250920" y="1557360"/>
            <a:ext cx="85690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buClr>
                <a:srgbClr val="1f497d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роверка приемлемости бенефициаров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1f497d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Выполнение рекомендаций СМК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(если будут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редоставление СТС необходимых документов для контракт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(в т.ч. приложения к контракту, подписанные ведущим бенефициаром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одготовка контракта –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на английском язык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одписание контракта сторонами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Органом Управления и Ведущим бенефициаром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осле подписания 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ГРАНТОВЫЙ КОНТРАКТ ДОЛЖЕН БЫТЬ ОБЯЗАТЕЛЬНО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ЗАРЕГИСТРИРОВАН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в БЕЛАРУСИ (в случае беларуских бенефициаров в проекте)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и/ил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в УКРАИНЕ (в случае украинских бенефициаров в проекте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&gt;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согласно действующему законодательству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ctr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06280" y="10825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ОДПИСАН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НТОВОГО КОНТРАКТ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4643280" y="5373720"/>
            <a:ext cx="4032360" cy="719280"/>
          </a:xfrm>
          <a:prstGeom prst="roundRect">
            <a:avLst>
              <a:gd name="adj" fmla="val 10000"/>
            </a:avLst>
          </a:prstGeom>
          <a:solidFill>
            <a:srgbClr val="c6d9f1"/>
          </a:solidFill>
          <a:ln cap="sq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uk-UA" sz="1800" spc="-1" strike="noStrike">
                <a:solidFill>
                  <a:srgbClr val="3333cc"/>
                </a:solidFill>
                <a:latin typeface="Calibri"/>
              </a:rPr>
              <a:t>См: пп.7.4 и7.5 Программного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uk-UA" sz="1800" spc="-1" strike="noStrike">
                <a:solidFill>
                  <a:srgbClr val="3333cc"/>
                </a:solidFill>
                <a:latin typeface="Calibri"/>
              </a:rPr>
              <a:t>Руководства для 2-го набор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rostokąt 6"/>
          <p:cNvSpPr/>
          <p:nvPr/>
        </p:nvSpPr>
        <p:spPr>
          <a:xfrm>
            <a:off x="236520" y="1049400"/>
            <a:ext cx="854064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РИЛОЖЕНИЯ, ТРЕБУЕМЫЕ ПЕРЕД ПОДПИСАНИЕМ ГРАНТОВОГО КОНТРАКТ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Symbol zastępczy zawartości 8"/>
          <p:cNvSpPr/>
          <p:nvPr/>
        </p:nvSpPr>
        <p:spPr>
          <a:xfrm>
            <a:off x="208080" y="2133720"/>
            <a:ext cx="7900920" cy="40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66760" indent="-26676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документы, подтверждающие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приемлемость Бенефициара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266760" indent="-26676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-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Устав или равноценный документ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266760" indent="-266760" algn="just"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доверенность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если требуется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)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для лица, подписавшего Заявк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266760" indent="-266760" algn="just"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Регистрационные документы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справка и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з Госудаственного Судового Реестра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для польских бенефициаров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;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справка из Единого Государственного Реестра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для украинских бенефициаров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;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Сертификат о госудаственной регистрации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-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для беларуских бенефициаров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266760" indent="-26676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декларац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о наличии всех необходимых разрешений, касающихся объектов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компонент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и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фраструктуры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266760" indent="-26676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в электронной версии</a:t>
            </a:r>
            <a:r>
              <a:rPr b="0" i="1" lang="pl-PL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266760" indent="-266760" algn="just">
              <a:lnSpc>
                <a:spcPct val="93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266760" indent="-266760" algn="just">
              <a:lnSpc>
                <a:spcPct val="93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179280" y="1341360"/>
            <a:ext cx="856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Стороны контракта (преамбула) и их адрес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23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Определения терминов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1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Цель контракта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2) и период реализации проекта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4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артнерское соглашение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3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Финансирование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5), платежи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15), возврат средств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19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риемлемость расходов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6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Закупки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11) и конфликт интересов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13)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Визуализация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20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бязательства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7,8,10)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решение споров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22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Внесение изменений в контракт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9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Расторжение контракта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18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РИЛОЖЕНИЯ: Описание проекта (№ 3), Бюджет проекта (№4), банковские реквизиты (№5),  доверенность (№1 и №2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 algn="just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 algn="ctr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79280" y="836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ГРАНТОВЫЙ КОНТРАК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206280" y="1793880"/>
            <a:ext cx="8398080" cy="41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buClr>
                <a:srgbClr val="1f497d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СРОКИ ВЫПОЛНЕНИЯ КОНТРАКТ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- контракт вступает в силу с дня подписания второй стороной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- контракт действителен до даты выплаты балансового платежа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месяцев от завершения периода реализации проект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ЕРИОД РЕАЛИЗАЦИИ ПРОЕКТ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начинается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Calibri"/>
              <a:buAutoNum type="alphaLcParenR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день следующий после дня подписания второй стороной,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Calibri"/>
              <a:buAutoNum type="alphaLcParenR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ервый день месяца, следующий после дня выплаты авансового платежа,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Calibri"/>
              <a:buAutoNum type="alphaLcParenR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другая дата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–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заканчивается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: через то количество месяцев реализации проекта, которое указано в грантовом контракт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ctr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206280" y="10825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НТОВ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Ы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ОНТРАКТ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az 3" descr="ppt-2str.pd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Symbol zastępczy zawartości 8"/>
          <p:cNvSpPr/>
          <p:nvPr/>
        </p:nvSpPr>
        <p:spPr>
          <a:xfrm>
            <a:off x="250920" y="1828800"/>
            <a:ext cx="8569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ctr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rostokąt 7"/>
          <p:cNvSpPr/>
          <p:nvPr/>
        </p:nvSpPr>
        <p:spPr>
          <a:xfrm>
            <a:off x="206280" y="10699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4040" indent="-284040"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PARTNERSTWO W PROJEKCI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250920" y="107460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ЦИП ВЕДУЩЕГО БЕНЕФИЦИА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image.png" descr="image.png"/>
          <p:cNvPicPr/>
          <p:nvPr/>
        </p:nvPicPr>
        <p:blipFill>
          <a:blip r:embed="rId2"/>
          <a:stretch/>
        </p:blipFill>
        <p:spPr>
          <a:xfrm>
            <a:off x="407880" y="1378080"/>
            <a:ext cx="8255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2556000" y="54936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РТНЕРСТВО В ПРОЕКТ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859280" y="1197000"/>
            <a:ext cx="3753000" cy="57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Установленного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образц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приложение 7 к Программному руководству для 2-го набора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Язык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: английский обязательно (другие дополнительно  - допускается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язанности партнеров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пределение задач между партнерам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нятие решений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чий язык, коммуникация, конфиденциальность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юджет, платеж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емлемые расходы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врат средств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трудничество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етьми сторонам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Diagram 5" descr=""/>
          <p:cNvPicPr/>
          <p:nvPr/>
        </p:nvPicPr>
        <p:blipFill>
          <a:blip r:embed="rId2"/>
          <a:stretch/>
        </p:blipFill>
        <p:spPr>
          <a:xfrm>
            <a:off x="457200" y="1116000"/>
            <a:ext cx="4443480" cy="47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"/>
          <p:cNvSpPr/>
          <p:nvPr/>
        </p:nvSpPr>
        <p:spPr>
          <a:xfrm>
            <a:off x="179280" y="1773360"/>
            <a:ext cx="8785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Бенефициар может выбрать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один из двух вариантов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платежей от ОУ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1) АВАНСИРОВАНИ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транш в размере 85% суммы гранта на основании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аявки на платеж, установленого образца (доступен на сайте Программы)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Подтверждения одобрения/регистрации проекта в Беларуси (если требуется)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Партнерского соглашения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Других необходимых деклараций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балансовый платеж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2) ВОЗМЕЩЕНИЕ РАСХОДОВ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дноразовая выплата 100% фактической утвержденной суммы гранта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Выплата после утверждения  финального отчета по реализации проекта </a:t>
            </a:r>
            <a:br>
              <a:rPr sz="1800"/>
            </a:b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(в т.ч. сертификат аудитора, заявка на платеж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 algn="just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 algn="ctr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06280" y="10825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НАНСИРОВАНИЕ ПРОЕКТ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0T11:08:20Z</dcterms:created>
  <dc:creator>Natalia Majewska</dc:creator>
  <dc:description/>
  <dc:language>en-US</dc:language>
  <cp:lastModifiedBy>Admin</cp:lastModifiedBy>
  <dcterms:modified xsi:type="dcterms:W3CDTF">2018-09-04T08:34:46Z</dcterms:modified>
  <cp:revision>420</cp:revision>
  <dc:subject/>
  <dc:title>Prezentacja programu PowerPoint</dc:title>
</cp:coreProperties>
</file>